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B33-3DEF-498C-87F2-BD195980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467-68D7-405A-BD25-2A8D9C9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54F-3575-48EE-92E5-ADCF0153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1E0-C40E-4BDC-BCE7-6A231F7B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6F13-C186-42F3-A9F9-6042BE1A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0E81-4C58-4075-8583-BFF630A7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4CA-D606-43D5-B835-CB2004B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DC6-EEF3-43DF-A688-9F093490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DFC9-980E-43E9-AF7D-364E6E52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A38-792D-4A6D-82E2-E3AD437E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7F7-01E7-40E9-AFFE-A2885E4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72D-60E5-4783-8504-399620C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36B6-ACBF-4C8A-9E76-FB7C7FB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F3D0-A17B-4BB7-8CB5-12AA3C5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C27E-D5F2-4C04-93C0-74E93A9B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B94A-1FBD-4C18-AFBE-F047F00A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8A13-3A8B-464D-A386-E6EAD051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8B0D-E689-4CD2-9ED0-652C0CA1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7AC9-CA4E-4DEA-9AF9-8E94B0B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6966-F365-4305-8251-A1AAB56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B656-D6FB-4DDD-9DE1-E6A88A8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FF11-7EB5-4E18-AFE2-BD963859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9C2-6F79-4D3A-8B28-EC901633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CEB6-45D7-4FF2-8190-675ABD8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1A24-BCA9-4D41-BBBB-DF21D38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38E5-D1C9-44D5-96FF-240FF43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EE07-072F-41B5-915E-B0B286D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0491-F1FA-4554-936D-AC77144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11C5-0788-44B2-8017-F555F815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67CB-4458-4177-9F4D-BEF1B9BD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8939-012B-495C-A30C-90A6F59F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9497-982B-4D75-9DCA-A5DD85F0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725B-9B7A-452A-A2D6-C7D472DD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02B-0735-4251-995A-82E55F9B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3747-128B-42DF-83EF-6FD09D08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7D0A-B4D5-49ED-BB8E-B38A2BF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80E6-7CEB-44E6-BDEC-FC0F0C9B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95DE-1680-497B-A457-476C2F7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CE5E-B753-4DB9-A565-B6ED8EB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ECD3-A23C-4BB2-9A1B-2EF3668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CCCA-52DB-4374-836B-1DBFEF4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7079-6601-4E53-9DCD-8B11AEEC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B63D-8736-49D2-8782-98C99482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035B-31C5-4D28-89E1-FF550BCF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31A-9490-4986-8AD4-213013D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EB9E-3B42-4AF4-AA65-03AE25E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6AE8-46D8-4724-A482-24656559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A391-C147-460C-9A37-7B521ED4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71AC-A722-4083-9870-EE64A2D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B7F4-19ED-4366-A790-97910F35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76B3-19B1-4570-A579-3529968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1F37-DF8B-4A5B-8B9A-7FF0858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BB56-3626-4BAA-8FCA-B8DF857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8BAA-7288-4D6F-9B10-FEEAAD7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73D0-533D-4D92-B514-1D618584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922-7A19-49DA-B614-A724B467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EF85D-D1EC-47A8-BE17-1D47683C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B18-670F-4DA3-9701-7F0F956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8D4-DC87-4DCD-A04E-6FF4ED17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2D6-AA7E-455B-AD9E-32E2942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CB3-271B-46AB-9888-A6A971A2D3C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255E-0FDB-4B80-BCFA-84189D587C2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044B-5B7E-43D5-812D-C58D6CBDEAC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4849-376A-4818-9F91-33D5DFB50A2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C5AD-D165-42DC-93F9-4569562F907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2000160"/>
            <a:ext cx="8183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удрость родительской любв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1285920" y="714240"/>
            <a:ext cx="2500200" cy="1500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3786120" y="3143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й же должна быть подлинная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родительская любовь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4" descr="C:\Users\123\Desktop\imagesCA7NSKEY.jpg"/>
          <p:cNvPicPr/>
          <p:nvPr/>
        </p:nvPicPr>
        <p:blipFill>
          <a:blip r:embed="rId1"/>
          <a:stretch/>
        </p:blipFill>
        <p:spPr>
          <a:xfrm>
            <a:off x="6143760" y="10000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Users\123\Desktop\untitled.png"/>
          <p:cNvPicPr/>
          <p:nvPr/>
        </p:nvPicPr>
        <p:blipFill>
          <a:blip r:embed="rId2"/>
          <a:stretch/>
        </p:blipFill>
        <p:spPr>
          <a:xfrm>
            <a:off x="785880" y="371484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714240" y="1643040"/>
            <a:ext cx="52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 установили, что на воспитание детей у мамы и папы остается еже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лишь 17мину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3429000" y="3857760"/>
            <a:ext cx="5143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умайте, что вы можете  дать своему ребенку за это время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97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ем я согреваю своего ребенка, как я проявляю к нему свою любовь?»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Picture 3" descr="C:\Users\123\Desktop\imagesCAM4O0DZ.jpg"/>
          <p:cNvPicPr/>
          <p:nvPr/>
        </p:nvPicPr>
        <p:blipFill>
          <a:blip r:embed="rId1"/>
          <a:stretch/>
        </p:blipFill>
        <p:spPr>
          <a:xfrm>
            <a:off x="2786040" y="228600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642600"/>
            <a:ext cx="889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условная любовь не зависит:</a:t>
            </a:r>
            <a:br>
              <a:rPr sz="4000"/>
            </a:br>
            <a:r>
              <a:rPr b="0" lang="ru-RU" sz="4000" spc="-1" strike="noStrike">
                <a:solidFill>
                  <a:srgbClr val="f14c1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от внешности ребен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ни от его достоинств и недостатков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ни от способнос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ни от сегодняшнего поведе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7720" y="5429160"/>
            <a:ext cx="800748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5214960" y="3857760"/>
            <a:ext cx="2428920" cy="1928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:\Documents and Settings\админ\Рабочий стол\собрание конкурс\дев.jpeg"/>
          <p:cNvPicPr/>
          <p:nvPr/>
        </p:nvPicPr>
        <p:blipFill>
          <a:blip r:embed="rId2"/>
          <a:stretch/>
        </p:blipFill>
        <p:spPr>
          <a:xfrm>
            <a:off x="1357200" y="385776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slide_17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357440"/>
            <a:ext cx="81835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Я тебя люблю, мы рядом, мы вместе 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и мы все преодолеем»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4" descr="C:\Documents and Settings\админ\Рабочий стол\собрание конкурс\052.jpg"/>
          <p:cNvPicPr/>
          <p:nvPr/>
        </p:nvPicPr>
        <p:blipFill>
          <a:blip r:embed="rId1"/>
          <a:stretch/>
        </p:blipFill>
        <p:spPr>
          <a:xfrm>
            <a:off x="1857240" y="714240"/>
            <a:ext cx="5286600" cy="354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7160" y="836280"/>
            <a:ext cx="7500960" cy="39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ст «Какие мы родители»</a:t>
            </a:r>
            <a:br>
              <a:rPr sz="3600"/>
            </a:br>
            <a:br>
              <a:rPr sz="4000"/>
            </a:br>
            <a:r>
              <a:rPr b="1" lang="ru-RU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редлагается ответить на 10 вопросов. Отвечайте  быстро и откровенно. При ответе на вопрос вам надо записать одно из слов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;  «НЕТ», «ИНОГДА»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 каждый положительный ответ запишите себе 2 очк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 ответ "иногда" - 1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 отрицательный - 0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водим итог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285560"/>
            <a:ext cx="8007480" cy="4809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&gt; Более 15 очков. Вы вполне справляетесь со своими родительскими обязанностями. И тем не менее не удастся ли еще кое-что немного улучшить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&gt; От 7 до 14 очков. Вы не делаете крупных ошибок в воспитании, но все же вам есть, над чем задуматься. А начать можно с того, что ближайший выходной полностью посвятить детям, забыв на время приятелей и производственные проблемы. И будьте уверены, дети вас полностью за это вознаградят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&gt; Менее 6 очков. О настоящем воспитании вы имеет довольно смутное представление. И хотя говорят, что начать никогда не поздно, советуем вам не уповать на эту поговорку, а, не мешкая, заняться улучшением своих знаний в этой област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497196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юбовь родителей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довлетворять эмоциональные потребности ребенк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стая, дети задают один вопрос: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ы любите меня?»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7" descr="C:\Users\123\Desktop\imagesCAA9P2S4.jpg"/>
          <p:cNvPicPr/>
          <p:nvPr/>
        </p:nvPicPr>
        <p:blipFill>
          <a:blip r:embed="rId1"/>
          <a:stretch/>
        </p:blipFill>
        <p:spPr>
          <a:xfrm>
            <a:off x="5715000" y="1857240"/>
            <a:ext cx="2638440" cy="2643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юбовь умиления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тинктивная, неразумн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иногда наивная любовь.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5" descr="C:\Users\123\Desktop\imagesCA7EA4OF.jpg"/>
          <p:cNvPicPr/>
          <p:nvPr/>
        </p:nvPicPr>
        <p:blipFill>
          <a:blip r:embed="rId1"/>
          <a:stretch/>
        </p:blipFill>
        <p:spPr>
          <a:xfrm>
            <a:off x="2143080" y="3071880"/>
            <a:ext cx="4572000" cy="27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7320" y="714240"/>
            <a:ext cx="585756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спотическая любовь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с малых лет извращается представление о добром начале в человеке, он перестает верить в человека и человечность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4" descr="C:\Documents and Settings\админ\Рабочий стол\собрание конкурс\article-1165156-041D14F5000005DC-842_233x423(1).jpg"/>
          <p:cNvPicPr/>
          <p:nvPr/>
        </p:nvPicPr>
        <p:blipFill>
          <a:blip r:embed="rId1"/>
          <a:stretch/>
        </p:blipFill>
        <p:spPr>
          <a:xfrm>
            <a:off x="500040" y="1000080"/>
            <a:ext cx="2130480" cy="38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00240"/>
            <a:ext cx="818352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юбовь откуп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Родители видят свой долг  тольк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обеспечении всех материальных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отребностей ребен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 семье царит атмосфера духовн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устоты, убожеств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4" descr="C:\Users\123\Desktop\imagesCAQ7WPZJ.jpg"/>
          <p:cNvPicPr/>
          <p:nvPr/>
        </p:nvPicPr>
        <p:blipFill>
          <a:blip r:embed="rId1"/>
          <a:stretch/>
        </p:blipFill>
        <p:spPr>
          <a:xfrm>
            <a:off x="3286080" y="1000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53478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Игра «Паутинк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Рисунок 4" descr="5.jpg"/>
          <p:cNvPicPr/>
          <p:nvPr/>
        </p:nvPicPr>
        <p:blipFill>
          <a:blip r:embed="rId1"/>
          <a:stretch/>
        </p:blipFill>
        <p:spPr>
          <a:xfrm>
            <a:off x="1571760" y="1768320"/>
            <a:ext cx="6333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3:02:25Z</dcterms:created>
  <dc:creator>зоя</dc:creator>
  <dc:description/>
  <dc:language>en-US</dc:language>
  <cp:lastModifiedBy>Диана</cp:lastModifiedBy>
  <dcterms:modified xsi:type="dcterms:W3CDTF">2019-02-27T17:21:57Z</dcterms:modified>
  <cp:revision>202</cp:revision>
  <dc:subject/>
  <dc:title>Слайд 1</dc:title>
</cp:coreProperties>
</file>